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2427-C670-4622-B0DB-FF0BEE6A4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5BF1-F528-4CDD-9B09-05B4A26FD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5AE8-42AC-4ED8-877A-069049229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56E7-2077-4158-9AD1-0F72BCEF7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46D6-70E9-40D2-8075-D2DFB0C02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1FC0-25C4-46AD-AC0A-7BEF98DFA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40F7-A319-463B-9BA8-5EC10FC87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BC16-D36D-489D-A65B-66F7036D7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77E6-1AC8-41C6-BBE0-FE1C20381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41EC-1965-4EF6-B4E8-E37051BA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EB13-AC04-4DD9-BBA6-04DC8EC2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C553-283D-41FF-9033-BCAF63E4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0859D-F47F-40C3-99EB-B7A6FB2AA0D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hyperlink" Target="http://www.feam.br/images/stories/arquivos/SERVIDORES/anexo+i.doc" TargetMode="External"/><Relationship Id="rId12" Type="http://schemas.openxmlformats.org/officeDocument/2006/relationships/hyperlink" Target="http://www.feam.br/images/stories/arquivos/SERVIDORES/anexo+ii.doc" TargetMode="External"/><Relationship Id="rId13" Type="http://schemas.openxmlformats.org/officeDocument/2006/relationships/hyperlink" Target="http://www.feam.br/images/stories/arquivos/SERVIDORES/anexo+iii.doc" TargetMode="External"/><Relationship Id="rId14" Type="http://schemas.openxmlformats.org/officeDocument/2006/relationships/hyperlink" Target="http://www.feam.br/images/stories/arquivos/SERVIDORES/anexo+iv.doc" TargetMode="External"/><Relationship Id="rId15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" Target="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3203280" y="3715920"/>
            <a:ext cx="594036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Century Gothic"/>
              </a:rPr>
              <a:t>Sistema Estadual de Meio Amb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8920" y="2637000"/>
            <a:ext cx="374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4d4d4d"/>
                </a:solidFill>
                <a:latin typeface="Arial"/>
              </a:rPr>
              <a:t>SISEM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2771640" y="638172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925800" y="6453360"/>
            <a:ext cx="790560" cy="225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218200" y="6364440"/>
            <a:ext cx="793800" cy="349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516720" y="6237360"/>
            <a:ext cx="863640" cy="473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rot="5400000">
            <a:off x="5220000" y="2996280"/>
            <a:ext cx="287280" cy="289080"/>
          </a:xfrm>
          <a:prstGeom prst="rect">
            <a:avLst/>
          </a:prstGeom>
          <a:solidFill>
            <a:srgbClr val="6cbc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4499280" y="2996280"/>
            <a:ext cx="287280" cy="289080"/>
          </a:xfrm>
          <a:prstGeom prst="rect">
            <a:avLst/>
          </a:prstGeom>
          <a:solidFill>
            <a:srgbClr val="346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5400000">
            <a:off x="3708720" y="2996280"/>
            <a:ext cx="287280" cy="289080"/>
          </a:xfrm>
          <a:prstGeom prst="rect">
            <a:avLst/>
          </a:prstGeom>
          <a:solidFill>
            <a:srgbClr val="815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0" y="4292640"/>
          <a:ext cx="9144000" cy="919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292640"/>
                    <a:ext cx="914400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547640" y="6308640"/>
          <a:ext cx="673200" cy="389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47640" y="6308640"/>
                    <a:ext cx="67320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8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179280" y="1484280"/>
            <a:ext cx="882036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 servidor que, por convocação expressa, afastar-se de sua sede acompanhando, na condição de assessor do Governador do Estado, Vice-Governador, Secretário de Estado e dirigente máximo de órgão autônomo, fundação e autarquia, fará jus ao mesmo tratamento dispensado a essas autoridades no que se refere às despesas de viag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do dois ou mais servidores, que recebam diárias com valores diferenciados, viajarem juntos para participar de uma mesma atividade técnica, será concedida a todos diária equivalente à do servidor que estiver enquadrado na faixa superior, desde que autorizado pelo dirigente máximo do órgão ou entidade, admitida a delegação de competên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idera-se atividade técnica a participação conjunta de servidor em fiscalizações, congressos, seminários, reuniões, treinamentos e outros even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caso de servidor ocupante ou detentor de mais de um cargo ou de função pública, o cálculo da diária terá como base o cargo ou a função cujo desempenho das atividades motivou a viag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9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179280" y="1413000"/>
            <a:ext cx="882036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 servidor ocupante de cargo efetivo ou detentor de função pública, e no exercício de cargo em comissão, poderá optar por aquele sobre o qual será calculada sua diária de viag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 diárias, até o limite de dez, serão pagas antecipadam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viagem que ocorrer no sábado, domingo ou feriado será expressamente justificada e autorizada pelo dirigente máximo do órgão ou entidade, conforme Item 1 do formulário “Pedido de Autorização” (Anexo VII). Este formulário deverá ser preenchido em apenas uma v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 diárias que excederem o limite a que referido no caput serão autorizadas mediante justificativa fundamentada, e poderão ser pagas parceladamente, a critério do dirigente máximo do órgão ou entidade, conforme Item 2 do formulário “Pedido de Autorização” (Anexo VII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s casos de emergência, as diárias poderão ser pagas após o início da viagem do servidor, mediante justificativa fundamentada do dirigente máximo do órgão ou entidade, conforme Item 3 do formulário “Pedido de Autorização” (Anexo VII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0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179280" y="981000"/>
            <a:ext cx="8820360" cy="44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Viagem em Veículo Particu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ão será autorizada viagem de servidor em veículo particular, exce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) em veículo locado do prestador de serviço ou cedido a órgão, fundação ou autarquia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) em veiculo do próprio servidor, no interesse deste e do serviço, desde que previamente autorizadas pelos titulares do órgão, fundação e autarqu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.1. Na hipótese do item “b” deste regulamento, a Secretaria de Estado de Planejamento e Gestão, estabelecerá normas dispondo sobre a forma de indenização das despesas realizadas pelo servidor que utilizar veículo de sua propriedade em viagens de serviç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.2. Até que sejam estabelecidas as normas a que se refere o item “11.1” o servidor que utilizar, em viagens, veículo de sua propriedade , fará jus , exclusivamente, à indenização das despesas com combustível, podendo receber adiantamen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179280" y="981000"/>
            <a:ext cx="8820360" cy="46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Tabela de Val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Viagens Nacionais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TIN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FAIXA I                 FAIXA II          FAIXA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itais de estado exceto              140,00                       190,00                  270,00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lo Horizo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_______________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lo Horizonte, Municíp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peciais e Municípios de             100,00                     120,00                    200,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ros Estados que n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jam capitai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mais Município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80,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100,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140,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_______________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ária de Camp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20,00                        20,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932360" y="263700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020000" y="2565360"/>
            <a:ext cx="0" cy="30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059280" y="263700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5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250920" y="1052640"/>
            <a:ext cx="864216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Enquadra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ixa I: Servidor que exerça cargo efetivo ou em comissão que exija até o nível médio de escolaridade, bem como o servidor que exerça função pública que exija até esse nível de escolarida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ixa II: Servidor que exerça cargo efetivo ou em comissão que exija nível superior, bem como o servidor que exerça função pública que exija esse nível de escolaridade, além do Secretário-Coordenador da Secretaria de Estado da Educação e os membros de Conselhos Estadua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ixa III: Secretário Particular do Governador, Assessor Especial do Governador, Assessor Especial para Assuntos Internacionais e de Cerimonial, Assessor Especial do Governador em Assuntos Institucionais, Assessor de Assuntos Internacionais II, Secretário de Estado, Secretário-Adjunto, Subsecretário, Chefe de Gabinete do Vice-Governador, Chefe de Gabinete de Secretaria de Estado e Dirigente Máximo de Órgão Autônomo, Fundação e Autarquia, Comandante de Aeronave, Comandante de Avião, Comandante de Avião a jato, Piloto de Helicóptero e Primeiro Oficial de Aeronav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6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250920" y="1292400"/>
            <a:ext cx="8642160" cy="43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Arial"/>
              </a:rPr>
              <a:t>Relação de Municípios Especi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agamento de diárias de acordo com os critérios e valores do Decreto 44.448 de 26/01/2007 e com a seguinte relação de municípios especiai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raxá,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Barbacena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Belo Horizonte,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axambu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ntagem,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iamantina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ivinópolis,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Governador Valadar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patinga,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Juiz de Fora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ontes Claros,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uro Preto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atos de Minas,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oços de Calda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eófilo Otoni,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Ubá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Uberlândia,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Unaí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Varginh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7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395280" y="1052640"/>
            <a:ext cx="7993080" cy="51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99"/>
                </a:solidFill>
                <a:latin typeface="Arial"/>
              </a:rPr>
              <a:t>PERGUNTAS MAIS FREQU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1 - Quando o servidor poderá efetuar despesas na viagem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 servidor só poderá efetuar despesas em viagem a partir do momento que sair da sua sede.  Nota fiscal referente ao município sede não serão aceit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2 - Quando ocorrer atrasos nos vôos aéreos, como devo proceder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este caso deverá constar no campo "observações" o atraso ocorrido - justificativa pela qual os horários de embarque e desembarque não coincidirão com os constantes nos bilhetes aére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3 - Qual tipo de comprovante deverei anexar quando em viagem aérea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icket de embarque e o Eticket enviado por email pela empresa contratada para fornecimento das passage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4 - Que documento deverei apresentar para comprovação de deslocamento, quando o veículo for locad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eclaração da empresa locadora em papel timbrado, contendo CNPJ e responsável pelas informações. O documento deverá constar ainda, dia e horário de saída e de chegada da viagem, localidade e  nome dos passageir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8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250920" y="1384200"/>
            <a:ext cx="864216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 - Quando o servidor não poderá realizar novas viagens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do o servidor tiver com dois adiantamentos em aberto de viagens anteriores ou apenas um adiantamento com prazo para prestação de contas vencido, ou seja, com mais de 5 dias após o retorno à se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 - Quando o servidor não entregar a solicitação de viagem no prazo mínimo de 5 dias úte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 a viagem, como proceder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 servidor deverá entregar a solicitação até o dia da viagem para que seja emitido 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enho prévio ( conforme lei 4.320/93). Após o retorno da viagem, ao apresentar o relatóri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 mesmo receberá o valor "aprovado"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- Quando um servidor lotado deslocar para outra cidade para participar de fiscalização e outros eventos, e que neste local  tenha um servidor que receba diária de faixa maior, o mesmo poderá solicitar equiparação de diária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 ,desde que ambos exerçam a mesma atividade fi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9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250920" y="1384200"/>
            <a:ext cx="8642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 – Servidores terceirizados  podem ter suas diárias equiparadas com servidores  do SISEMA (IEF, IGAM, FEAM,SEMAD)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 hipótese alguma. Deverão seguir a tabela no que se refere a cargo e nível de escolaridade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250920" y="981000"/>
            <a:ext cx="8642160" cy="57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333399"/>
              </a:buClr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rdenadores de Despesa e a importância de seus atos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creto 37.924/96 – Dispõe  sobre a execução Orçamentária e Financeir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t. 21 - Ordenador de Despesa  é  o  dirigente  máximo  do órgão ou entidade investido do poder de  realizar despesas,   compreende o ato de empenhar, liquidar, ordenar pagamento  e  movimentar recursos que lhe forem atribuíd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t. 22 - É permitida a delegação  da  competência  de  que trata o artigo anterior, por meio de ato publicado no órgão oficial dos Poderes do Estado, observado o princípio de  segregação de funçã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t. 23 - O Ordenador de Despesa só será exonerado  da  sua responsabilidade se as suas contas forem julgadas regulares pelo Tribunal de Contas do Esta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nador de despesas é toda e qualquer autoridade legalmente estabelecida de cujos atos resultarem emissão de empenho, autorização de pagamento, suprimento ou dispêndio de recursos públicos pelos quais esta respond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Ordenador de Despesa responderá, por si só ou solidariamente com os demais agentes responsáveis, por eventuais prejuízos causados à Fazenda em decorrência do recebimento, guarda e aplicação de dinheiros, valores e outros bens postos à sua disposição ou pelos quais seja responsáve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Ordenador de Despesa, salvo conivência, não deverá ser responsabilizado por prejuízos causados à Fazenda decorrentes de atos praticados pelos demais agentes que exorbitarem de ordens recebida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68360" y="141300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Procedimentos referentes à Contabilidade e Finanças públ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2773440" y="6381720"/>
            <a:ext cx="718920" cy="297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924360" y="6453360"/>
            <a:ext cx="792000" cy="225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5219640" y="6364440"/>
            <a:ext cx="792360" cy="349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6516720" y="6245280"/>
            <a:ext cx="863640" cy="474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"/>
          <p:cNvGraphicFramePr/>
          <p:nvPr/>
        </p:nvGraphicFramePr>
        <p:xfrm>
          <a:off x="1547640" y="6308640"/>
          <a:ext cx="673200" cy="389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47640" y="6308640"/>
                    <a:ext cx="67320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12600" y="2381400"/>
            <a:ext cx="9117000" cy="1168200"/>
          </a:xfrm>
          <a:custGeom>
            <a:avLst/>
            <a:gdLst/>
            <a:ahLst/>
            <a:rect l="l" t="t" r="r" b="b"/>
            <a:pathLst>
              <a:path w="703" h="90">
                <a:moveTo>
                  <a:pt x="703" y="22"/>
                </a:moveTo>
                <a:lnTo>
                  <a:pt x="703" y="49"/>
                </a:lnTo>
                <a:cubicBezTo>
                  <a:pt x="672" y="34"/>
                  <a:pt x="150" y="0"/>
                  <a:pt x="0" y="90"/>
                </a:cubicBezTo>
                <a:lnTo>
                  <a:pt x="0" y="22"/>
                </a:lnTo>
                <a:lnTo>
                  <a:pt x="703" y="22"/>
                </a:lnTo>
                <a:close/>
              </a:path>
            </a:pathLst>
          </a:custGeom>
          <a:solidFill>
            <a:srgbClr val="125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843280" y="3068280"/>
            <a:ext cx="54007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d4d4d"/>
                </a:solidFill>
                <a:latin typeface="Century Gothic"/>
              </a:rPr>
              <a:t>Palestrante: Andrea Quinaud Lacom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1" lang="pt-BR" sz="1800" spc="-1" strike="noStrike">
                <a:solidFill>
                  <a:srgbClr val="4d4d4d"/>
                </a:solidFill>
                <a:latin typeface="Century Gothic"/>
              </a:rPr>
              <a:t>       </a:t>
            </a:r>
            <a:r>
              <a:rPr b="1" lang="pt-BR" sz="1800" spc="-1" strike="noStrike">
                <a:solidFill>
                  <a:srgbClr val="4d4d4d"/>
                </a:solidFill>
                <a:latin typeface="Century Gothic"/>
              </a:rPr>
              <a:t>Carlyle dos Passos La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d4d4d"/>
                </a:solidFill>
                <a:latin typeface="Century Gothic"/>
              </a:rPr>
              <a:t>Data: 18/10/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1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"/>
          <p:cNvSpPr/>
          <p:nvPr/>
        </p:nvSpPr>
        <p:spPr>
          <a:xfrm>
            <a:off x="250920" y="981000"/>
            <a:ext cx="8642160" cy="43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ormulá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Anexo I: Solicitação de adiantamento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Anexo II: Relatório de viagem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Anexo III: Autorização para saída de veículo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Anexo IV: Solicitação de atividade de desenvolvimento de pessoal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Anexo V: Requisição de serviço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Anexo VI: Solicitação de passagem aérea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Anexo VII: Pedido de autorização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Anexo VIII: Programação de viagen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2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469800" y="1052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61720" y="1268280"/>
            <a:ext cx="8859960" cy="51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II – Padronização de procedimentos referente à despesa públ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 Não contratação de fornecedor que esteja com CND vencida junto ao SIAD (Sist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do de Administração Financeira), conf. Lei 8.666/93 art. 29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 Na Habilitaçã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t. 29 – A documentação relativa à regularidade fiscal, conf. o caso, consistirá e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- prova de inscrição no cadastro de pessoas Físicas (CPF) ou no Cadastro Nacion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 Pessoas Jurídicas (CNPJ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I - prova de inscrição no Cadastro de Contribuintes estadual ou municipal, se houver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ativo ao domicílio ou sede do licitante, pertinente ao seu ramo de atividade 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tível com o objeto contratua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II - prova de regularidade para com a Fazenda Federal, Estadual e Municip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domicílio ou sede do licitante, ou outra equivalente, na forma da le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V - prova de regularidade relativa à Seguridade Social e ao Fundo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rantia por Tempo de Serviço (FGTS), demonstrando situação regul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cumprimento dos encargos sociais instituídos por le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4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"/>
          <p:cNvSpPr/>
          <p:nvPr/>
        </p:nvSpPr>
        <p:spPr>
          <a:xfrm>
            <a:off x="469800" y="1052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50920" y="1268280"/>
            <a:ext cx="871380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Arial"/>
              </a:rPr>
              <a:t>                                         </a:t>
            </a:r>
            <a:r>
              <a:rPr b="1" lang="pt-BR" sz="1800" spc="-1" strike="noStrike">
                <a:solidFill>
                  <a:srgbClr val="333399"/>
                </a:solidFill>
                <a:latin typeface="Arial"/>
              </a:rPr>
              <a:t>IV - cancelamento de Restos a P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e acordo com o Decreto 44.653 de 08 de novembro de 2007 Que dispõe sobre o  Encerramento do Exercício de 2007,  em seu art 7º</a:t>
            </a:r>
            <a:r>
              <a:rPr b="1" lang="pt-BR" sz="16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ff3300"/>
                </a:solidFill>
                <a:latin typeface="Arial"/>
              </a:rPr>
              <a:t>§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ff3300"/>
                </a:solidFill>
                <a:latin typeface="Arial"/>
              </a:rPr>
              <a:t>1º As inscrições de que tratam os incisos I, II, e III do caput, não liquidadas impreterivelmente até 28 de fevereiro do exercício seguinte, deverão ser canceladas pela Unidade Executora.</a:t>
            </a:r>
            <a:r>
              <a:rPr b="0" lang="pt-BR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brando sempre de certificar o ano de competência da despesa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6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"/>
          <p:cNvSpPr/>
          <p:nvPr/>
        </p:nvSpPr>
        <p:spPr>
          <a:xfrm>
            <a:off x="469800" y="1052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50920" y="1268280"/>
            <a:ext cx="8713800" cy="43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V – Processos de Pagamento – Pessoa Fí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do pagamento efetuado a Pessoa Física deverá ser enviado a esta Coordenadoria, até o segundo dia útil subsequente ao mês de pagamento, as seguintes informações, para fins de preenchimento de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SEFIP – Programa da Previdência Social / INS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Lembrando qu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* pessoa jurídica:26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* Pessoa física: 24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viar para andrea@semad.mg.gov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468360" y="3068640"/>
          <a:ext cx="7775640" cy="700200"/>
        </p:xfrm>
        <a:graphic>
          <a:graphicData uri="http://schemas.openxmlformats.org/drawingml/2006/table">
            <a:tbl>
              <a:tblPr/>
              <a:tblGrid>
                <a:gridCol w="790560"/>
                <a:gridCol w="528480"/>
                <a:gridCol w="695520"/>
                <a:gridCol w="865080"/>
                <a:gridCol w="576360"/>
                <a:gridCol w="503280"/>
                <a:gridCol w="649080"/>
                <a:gridCol w="1008000"/>
                <a:gridCol w="908280"/>
                <a:gridCol w="216000"/>
                <a:gridCol w="525600"/>
                <a:gridCol w="509400"/>
              </a:tblGrid>
              <a:tr h="246240"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cessos de Pagamento - Pessoa Física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ês competênc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ódigo Pgt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me Segurado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ificação de Função / CB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T / PIS / PASE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F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lor Brut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tenção 1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tronal 2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º Ordem de Pagament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" name=""/>
          <p:cNvGraphicFramePr/>
          <p:nvPr/>
        </p:nvGraphicFramePr>
        <p:xfrm>
          <a:off x="-34920" y="-100080"/>
          <a:ext cx="9144000" cy="776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34920" y="-100080"/>
                    <a:ext cx="9144000" cy="7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95280" y="1949400"/>
            <a:ext cx="520560" cy="5209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961560" y="1908000"/>
            <a:ext cx="406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Indice da apresent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09520" y="2708280"/>
            <a:ext cx="6510600" cy="29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 - Procedimentos e recomendações quanto a adiantamen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para viagem a serviç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I.   Ordenadores de Despesa e a importância de seus atos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II – Padronização de procedimentos referente à despesa públic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V – Cancelamento de Restos a Pag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V – Processos de Pagamento – Pessoa Fí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179280" y="981000"/>
            <a:ext cx="864072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 - Procedimentos e recomendações quanto a adiantamento para viagem a serviç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8760" y="1773360"/>
            <a:ext cx="8820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 servidor/colaborador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que se deslocar de sua sede, eventualmente e por motivo de serviço, reunião técnica ou de trabalho, ou participação em eventos de formação profissional, faz jus à percepção de diária de viagem para fazer face às despesas com alimentação e pous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r conveniência administrativa ou operacional, a alimentação e pousada poderão ser fornecidas mediante pacote de viag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 servidor/colaborador  também fará jus à percepção de diária de viage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do, em exercício, for convocado para responder a processo administrativo disciplinar, na condição de membro, indiciado, testemunha ou depo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do estiver em exercício em posto fiscal, ou operação especial fora de sua sede, que não ofereça alimentação e pousada oficiais gratuitas, em virtude da inexistência de instalações para tal fi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179280" y="981000"/>
            <a:ext cx="864072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8760" y="1125360"/>
            <a:ext cx="8820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isposições Leg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reto 44.448/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mento de viagem a serviço disponibilizado no site do IEF, IGAM, SEMAD e FE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ordo de Resultado – versão completa disponibilizado no site                                           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ww.planejamento.mg.gov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179280" y="981000"/>
            <a:ext cx="864072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ecreto 37.924/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8760" y="1773360"/>
            <a:ext cx="8820000" cy="46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 2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§ 5º - Não será concedido adiantamento a servidor em alcance ou em atraso na prestação de contas de adiantamento anterior, nem a quem já for responsável por dois adiantament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§ 6º - Caso o responsável pela aplicação do adiantamento não cumpra os prazos estabelecidos nos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§§ 1º e 3º deste artig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a Superintendência de Finanças ou unidade administrativa equivalente comunicará imediatamente o fato ao Ordenador de Despesa, que determinará a tomada de conta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** Prazos estabelecidos pelo Decreto 44.448/07  - Art. 17 - Em todos os casos de deslocamento para viagem previstos neste Decreto, o servidor é obrigado a apresentar relatório de viagem, no prazo de cinco dias úteis subseqüentes ao retorno à sede devendo, para isso, utilizar o formulário constante no Anexo V, ou sistema eletrônico quando disponível pela SEPLAG, e restituir os valores relativos às diárias recebidas em excess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58760" y="1773360"/>
            <a:ext cx="88200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§ 7º - Se o responsável pela aplicação do adiantamento não atender às solicitações do Tomador de Contas, no prazo por ele estabelecido, o adiantamento será considerado alcance, anulando-se a apropriação da despesa, registrando-se a responsabilidade do servidor na conta Diversos Responsáveis, instaurando-se processo administrativo e comunicando o fato ao Tribunal de Contas do Estado, no prazo máximo de 2 (dois) dias útei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Critérios para pagamento de diá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diária de viagem será calculada com base no período de afastamento do servidor, conforme os valores previstos nas tabelas constantes dos Anexos I e II do Decreto nº44.448 de 26 de janeiro de 2007, ou em Acordo de Resultados Celebrado pelo Governo do Estado de Minas Gera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8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179280" y="1125360"/>
            <a:ext cx="882036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É devida uma diária integral, por período de 24 (vinte e quatro) horas de afastamento, tomando-se como termo inicial e final para contagem dos dias, respectivamente, a hora da partida e a da chegada na sede, sendo dispensado, neste caso, o comprovante de despesa com pous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 diária relativa à viagem ao exterior será computada a cada 24 (vinte e quatro) horas de afastamento, tomando-se como termo inicial e final, respectivamente, o desembarque e o embarq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o caso de afastamento por período igual ou superior a 12 (doze) horas e inferior a 24 (vinte e quatro) horas, havendo documento comprobatório das despesas realizadas com pagamento de pousada (pernoite) será devida diária integr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os casos de deslocamentos rotineiros dos servidores , nas áreas de atuação dos Escritórios Regionais, Núcleos e Agências, Supran´s , Sede (SISEMA/Belo Horizonte), em que o servidor esteja lotado , cuja permanência seja superior a 6(seis) horas e inferior a 24 (vinte e quatro) horas que não exija pernoite nestas áreas , será atribuída a diária de campo  - DC  , quando o valor será de R$ 20,00 (vinte) reais , de acordo com estabelecido na tabela de diárias deste regulame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7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179280" y="1125360"/>
            <a:ext cx="88203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s casos de afastamento por período igual ou superior a 6(seis) horas e inferior a 24 (vinte e quatro), será devida ao servidor a parcela de diária de viagem correspondente à alimentação, no que se refere aos  demais municípi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 servidor que dispuser de alimentação ou de pousada oficial gratuita ou custeada pelo SISEMA será devida à parcela da diária de viagem correspondente à alimentação ou à pous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8T12:32:44Z</dcterms:created>
  <dc:creator>SIL</dc:creator>
  <dc:description/>
  <dc:language>en-US</dc:language>
  <cp:lastModifiedBy>semad</cp:lastModifiedBy>
  <dcterms:modified xsi:type="dcterms:W3CDTF">2008-02-19T18:41:05Z</dcterms:modified>
  <cp:revision>36</cp:revision>
  <dc:subject/>
  <dc:title>Slide 1</dc:title>
</cp:coreProperties>
</file>